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A06-23D8-467A-89F7-6F666D3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81C-8F9C-454F-9683-FC25D094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06E-1641-4CB2-B6B5-A3EFABB4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CF3-27B8-451C-8354-9EA1AF36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9B7-8620-4C31-B9B0-CDA6488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D24-2FF0-40CE-9881-EB3FB32E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CC9-65E6-4FF9-B59C-94DAFDB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AAC-30D0-4CD7-8DBF-A741419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C30-12D6-4FA3-B33B-14AE3C67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B3A-2C1D-4F2F-A0B3-94F67C1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E3B-C9C9-4A6A-AAD3-0B75AD2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59B-B19B-4C52-9021-0A4F40A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849-364A-4779-AEEA-E71AB33C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533520"/>
            <a:ext cx="6553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Mi cuarto Id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3505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Elena W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22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90512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143000"/>
            <a:ext cx="6098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1752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os cuad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5909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86000"/>
            <a:ext cx="1523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esc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6019560"/>
            <a:ext cx="990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6095880"/>
            <a:ext cx="12189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s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914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106668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vent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447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5228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s Cort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2860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238880" y="396252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181480"/>
            <a:ext cx="137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Discos Co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52120" y="53341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533520"/>
            <a:ext cx="1295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Rel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1143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327672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297180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me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5334120"/>
            <a:ext cx="1600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alfom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4343400"/>
            <a:ext cx="9903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La comput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77320" y="2361960"/>
            <a:ext cx="228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2743200"/>
            <a:ext cx="137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El es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68580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05320" y="1752480"/>
            <a:ext cx="3047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4952880"/>
            <a:ext cx="7010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tching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Filename: j0433160.jpg&#13;Keywords: emoticons, emotions, expressions ...&#13;File Size: 441 KB&#13;Provided by: iStockphoto.com"/>
          <p:cNvPicPr/>
          <p:nvPr/>
        </p:nvPicPr>
        <p:blipFill>
          <a:blip r:embed="rId1"/>
          <a:stretch/>
        </p:blipFill>
        <p:spPr>
          <a:xfrm>
            <a:off x="6705720" y="838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1:05Z</dcterms:created>
  <dc:creator>eweed09</dc:creator>
  <dc:description/>
  <dc:language>en-US</dc:language>
  <cp:lastModifiedBy>Readington Township Board of Education</cp:lastModifiedBy>
  <dcterms:modified xsi:type="dcterms:W3CDTF">2009-05-12T16:32:05Z</dcterms:modified>
  <cp:revision>8</cp:revision>
  <dc:subject/>
  <dc:title>Slide 1</dc:title>
</cp:coreProperties>
</file>